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75C-F00F-4ABA-A9B5-4929A788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F5F-AB31-4C8D-AB6F-C18E74D1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A79-F37D-4F32-9A6C-0FB5C82D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F8B-0778-49EE-88A4-B47A3495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FAF-211A-4847-8827-3D036498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812-C303-4A94-BCAA-FA46964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258-9F60-4C51-8271-1171904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205-1A0D-488E-A1CA-36C1B34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36B-5AA9-4C68-B5B1-01E5A38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301-0353-4D18-BAF3-B5B84A0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BBD-F847-4BAA-8FCD-A00FD92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5C7-9DAD-4B33-8D5D-DC9E9AB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9BA7-CF13-4AA1-ABF8-122F45FB7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ftystat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iowa.shtml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nchantedlearning.com/usa/statesbw/iowa.shtml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nchantedlearning.com/usa/states/iowa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0929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ostcardsfrom.com/t1/990929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52531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Jessica Wa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10/17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Computer #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329800">
            <a:off x="990360" y="838080"/>
            <a:ext cx="69660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66ff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ow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66ff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94360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9421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Iowa’s State song, fifty states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,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October 25, 20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fty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city: Des Mo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: 3,046,355 (in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ed the union: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 entered in Dec 28, 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our liberties we prize and our rights we will maint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: Hawkey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: Wild Prairie R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: Eastern Goldf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: the song of 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behind name: an Indian tribal name of uncertain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acts:  Iowa’s tree is the Oak (quercus), largest cities are Des Moines, Cedar Rapids, Davenport, Sioux city, and Waterlo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8164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4520"/>
            <a:ext cx="5410080" cy="373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95800" y="4721400"/>
            <a:ext cx="4048200" cy="213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251460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Iowa,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October 18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nchantedlearning.com/usa/states/iow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(both pi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52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map of Iowa and its 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594216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nother map of Iowa but it shows where it is in the United states. </a:t>
            </a:r>
            <a:r>
              <a:rPr b="0" lang="en-US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2767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tate Flag of Iowa"/>
          <p:cNvPicPr/>
          <p:nvPr/>
        </p:nvPicPr>
        <p:blipFill>
          <a:blip r:embed="rId1"/>
          <a:stretch/>
        </p:blipFill>
        <p:spPr>
          <a:xfrm>
            <a:off x="304920" y="685800"/>
            <a:ext cx="8076960" cy="507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152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Iowa’s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715000"/>
            <a:ext cx="8458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U.S State flags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,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Oct. 25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law.ou.edu/ushistory/flags/iafla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American Goldfinch"/>
          <p:cNvPicPr/>
          <p:nvPr/>
        </p:nvPicPr>
        <p:blipFill>
          <a:blip r:embed="rId1"/>
          <a:stretch/>
        </p:blipFill>
        <p:spPr>
          <a:xfrm>
            <a:off x="228600" y="380880"/>
            <a:ext cx="2523960" cy="333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Iowa’s bird the eastern goldf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7652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irds of America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. 25 2011, http://www.50states.com/bird/goldfin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Iowa’s flower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5486400"/>
            <a:ext cx="4343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owa’s state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ct.25 2011, http://www.50states.com/flower/iow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All images Copyright © 1997 - 2000 WriteLine. All Rights Reserved. East Peru Iowa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East Peru, 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199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, Oct. 25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9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All images Copyright © 1997 - 2000 WriteLine. All Rights Reserved. Des Moines"/>
          <p:cNvPicPr/>
          <p:nvPr/>
        </p:nvPicPr>
        <p:blipFill>
          <a:blip r:embed="rId1"/>
          <a:stretch/>
        </p:blipFill>
        <p:spPr>
          <a:xfrm>
            <a:off x="0" y="380880"/>
            <a:ext cx="8458200" cy="563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This is a picture of Iowa’s capital Des Mo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94360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6216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Iowa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, Oct. 25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9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2:14Z</dcterms:created>
  <dc:creator>install</dc:creator>
  <dc:description/>
  <dc:language>en-US</dc:language>
  <cp:lastModifiedBy>install</cp:lastModifiedBy>
  <dcterms:modified xsi:type="dcterms:W3CDTF">2011-10-26T13:55:58Z</dcterms:modified>
  <cp:revision>11</cp:revision>
  <dc:subject/>
  <dc:title>Slide 1</dc:title>
</cp:coreProperties>
</file>